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495B-B2A2-45C0-9CDD-8A62C35CDC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3A2-9FC2-423A-ABB5-D2EFF7793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B88D-C8B8-4947-A5DF-105C24319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D4A-0C13-4C4D-8D19-F0AF32307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9CD-CFDA-484F-B7E9-515024173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7036-CFA1-4E8F-B8C7-5F38E225E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9CA-250C-4E45-A58A-848847BED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3A5-B7C7-4EBE-AC67-15F2FA729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01C5-3E3E-4BA3-AA36-B05B745DA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B8AA-66F1-4282-A0CA-5E32C2E21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915-9A7A-4CE7-B5F3-C3E55B1B0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5A0-B55E-43A8-AE44-82EAC1A37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B88-2CA2-4EF4-8FB7-922BC238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1D4-3575-4743-86C9-0D0D6CC2A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B530-0342-4455-81D1-F728943FB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7EE-39E0-4F6D-BAF3-19F93166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498-140B-47A5-B716-99A1DD056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DDBC-0652-44E1-ABBC-5A0AB9253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126C-E860-4725-863A-D691BC6C7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51E1-0616-479F-8FB6-86097B003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A3F-6180-4A69-A029-735AED74C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E47-18F2-497B-B5B7-AA1E47396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9C2-873B-4F3B-B85D-7E575F35F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BF9-D483-4E49-9E29-5834DF4F8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3B8-D234-4100-A6CE-D33878489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F4F3-89A7-430D-A157-6655CBD6A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44A-A9D7-4F23-8D29-50EFA9C2C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76E-0AA6-45F8-A025-889D73ED5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F9F8-AE68-4AF6-A555-4EBFFCCD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0311-4E08-4274-8BCC-1AD139AC8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67E-E668-4754-B16C-3B802728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5D6-7607-4EDE-ACF2-7068784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F10-C625-41A4-AED4-0CD05906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4B3-2C12-4E1C-8F12-DA4C0C13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C60-FEC2-4171-93C0-4106677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C7D-60CB-472C-8117-6C82DA0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935-F9C6-4ED8-A01C-FEAA75B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AB9-FB70-431D-A79D-19B28615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BC2-B403-4D50-9AB2-5C737778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CD4-CFC0-4CF4-84B5-D3E9F82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4B8-51E2-4C10-9F80-93A1F67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DD2-031B-471C-85A9-F7EB4FF2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FE0A-65FA-4806-9F48-770F3E56D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6A71-9F46-4E66-B0F0-A7C29CCF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87320"/>
            <a:ext cx="9144000" cy="57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1. After a volcanic eruption has covered an area with lava, which of the following is the most likely order of succession in the repopulation of the are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. lichen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hrub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. mo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.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mo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. shrub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ass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rees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ich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2. Driving your car directly impacts which nutrient cyc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nitrogen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 carb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 wate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 phosphor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ats to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inc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when a species disappears from all or part of it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angere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ecies-a species whose population size places it in danger of exti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0707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esticide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 chemical used to kill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DT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harmful pesticide banned in the 1970s after causing major harm to bald eagles and other large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ever, DDT helps stop insect-borne diseases such 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la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iologica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gnification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concentrations of a harmful substance increase in organisms at higher trophic levels in a food chain or food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refore the pollution gets worse at each level as you go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3340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ilent Spring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s a book written by Rach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son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in 1962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book condemned the use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DT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as a pesticide.  Carson claimed that DDT was causing birds to produce eggs with th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hell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that caused a lot of death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803920" y="1676520"/>
            <a:ext cx="33400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ilent Spr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s a very controversial book and started a lot of discussion that led to the banning of DD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ook is also credited with starting the environmen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ve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he 1970s that tried to prevent actions that harmed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252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serv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the wise management of natural resources including the preservation of habitats and wild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y efforts are ai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managing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es to keep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om becoming exti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782960" y="2362320"/>
            <a:ext cx="4132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rv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day, conservation efforts focus on protecting entire ecosystems as well as single species.  Protecting an ecosystem will ensure that the natural habitats an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raction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many different species are preserved at the sam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2590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look at endangered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Magnification Worksheet / Grap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y Review Puzz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se management of natural resources including the preservation of habitats and wildlife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four threats to bio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life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v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number of individuals that an environment can support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rganism’s role in its environment, the food it eats, and the place where it lives is called it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ype of growth do humans show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nential-medicine, sanitation, health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5410080" y="0"/>
            <a:ext cx="3733920" cy="391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0" y="400068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4667400" y="3772080"/>
            <a:ext cx="4476600" cy="30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riety of life on earth is call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iome Brochure Due Next Fri. (Feb. 1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/ EOC Pr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817560"/>
            <a:ext cx="914400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In a stable, long-existing community, the establishment of a single species per niche is most directly the result o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. parasitism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. competi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. interbreeding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. overproduc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 If a single plant species is removed from a food web, then most likely -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. an animal species will fill the unoccupied nich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. other plants will produce enough food for herbivor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. dependent herbivores will have to find new food 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. carnivores will be unaffected by the los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320" y="114300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 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H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-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-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14400" y="3936960"/>
            <a:ext cx="6781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 Brochure Due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l. Exam Thur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d Note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ety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diversi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the total of the genetically based variety of all organisms in the bi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system Diversity-the variety of habitats, communities, and ecological processes in the living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peci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iversity-number of differen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.5 mill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es currently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ty-total of all the different forms of genetic information carried by all organisms living o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is one of Earth’s greatest natural resources.  Species of many kinds have provided us with foods, industrial products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dicin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including painkillers, antibiotics, heart drugs, antidepressants, and anticancer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lue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9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biodiversity represented by wild plants and animals is a kind of 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ibr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” of genetic information upon which humans can draw for futur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hen biodiversity is lost, potential sources of material with significant value to the biosphere and humankind may be lost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16285" t="0" r="9965" b="0"/>
          <a:stretch/>
        </p:blipFill>
        <p:spPr>
          <a:xfrm>
            <a:off x="6607080" y="533520"/>
            <a:ext cx="2536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reats to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uman activity can reduce biodiversity by causing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ildlife Product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nvasiv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821200" y="3524400"/>
            <a:ext cx="3322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19:29Z</dcterms:created>
  <dc:creator>Owner</dc:creator>
  <dc:description/>
  <dc:language>en-US</dc:language>
  <cp:lastModifiedBy>Angela Gorney</cp:lastModifiedBy>
  <dcterms:modified xsi:type="dcterms:W3CDTF">2011-02-05T22:18:20Z</dcterms:modified>
  <cp:revision>57</cp:revision>
  <dc:subject/>
  <dc:title>Biodiversity</dc:title>
</cp:coreProperties>
</file>